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43F-D21F-4E0F-94F6-D850864F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A93-34F6-4B38-BCD5-3E5D40C9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665-2DA0-4939-8A8B-B33F9D7F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D87-2525-47E1-9AF4-552A22DF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D47F-FE51-4AC5-B61F-67A14AD3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55FA-E6BD-4D8B-961A-1F4190E5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DF24-CC7C-4A7B-AF6B-E366772D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0124-A20F-4C39-85C4-013D494D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3593-8CF0-4D2A-9BF6-F2221442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111D-DEE9-447E-AA40-93E12708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C198-E4FF-4A85-9E6D-C4A1C283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156-2C88-473B-B048-B50EDAD5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9ACB-6BE5-4BC5-AA47-B3A7F0E8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870B-D00E-4EC1-A8C1-1FDC8450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14D0-6644-477B-8C6C-1C0C014B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1FEA-D2D0-41B3-A2B8-C4B865C8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6C3A-251C-4365-86EF-764E0B53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749-DDC6-4135-BDED-A8184D00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048-38CD-4155-AAFC-A971A4D0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4B2-5D89-48E1-BD8C-03F57AF7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B5C-BF5F-4654-85D4-8326EB31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DB1-45A1-4B7C-963E-6CF60AF9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0C1-7C84-453E-9713-F2A9E519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D5C-DC7A-49E8-AB94-394E839D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9A33-1F2E-4690-AD6A-C268FCBF2CD7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9EC4-D68E-4F36-A0DE-DF7BB181B81C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Embedded%20Sound%201" TargetMode="External"/><Relationship Id="rId4" Type="http://schemas.microsoft.com/office/2007/relationships/media" Target="file:///tmp/home/.config/libreoffice/4/user/gallery/Embedded%20Sound%201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How to treat a Nosebleed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5105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By John Hernley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62200" y="1676520"/>
            <a:ext cx="2019600" cy="309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8188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34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erdana"/>
              </a:rPr>
              <a:t>A bloody nose can occur without warning.</a:t>
            </a:r>
            <a:endParaRPr b="0" lang="en-US" sz="3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auses of Nosebleeds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n injury such as a broken nose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Being in a dry place for a long time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By a cold (causes stress on nasal passageways)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224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How to treat a bloody nose.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topping a nosebleed is not difficult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Victim should sit down and lean slightly forward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Bow his or her head low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Firmly pinch the nose for 5 minute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f bleeding persists, get medical help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7:35Z</dcterms:created>
  <dc:creator>kms kms</dc:creator>
  <dc:description/>
  <dc:language>en-US</dc:language>
  <cp:lastModifiedBy>Kraybill Campus LMS</cp:lastModifiedBy>
  <dcterms:modified xsi:type="dcterms:W3CDTF">2011-05-26T15:58:36Z</dcterms:modified>
  <cp:revision>8</cp:revision>
  <dc:subject/>
  <dc:title>PowerPoint Presentation</dc:title>
</cp:coreProperties>
</file>